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7711-AA2F-4390-A450-693D569F9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4440-EA2C-4009-AC16-F9427B0C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902-C6AB-47ED-A694-47E283401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AA64-65E9-4249-9262-AF6F36C12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E424-6683-423A-96D2-F622F6353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BA72-5259-4A61-9353-AD1925A2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B324-27FF-4EDF-9868-2A81D9D27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B40F-8BFB-4254-A4C7-49879733F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B715-06E9-4200-BDC4-C4808DAF3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0458-D642-4E6D-9FE5-D4FACB4D2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59DF-05C3-4E50-8828-9CF37D2DA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6B33-A26B-49C5-9D6C-6CC1C0874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5A78-1F7A-413B-82CB-8DEE62936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FD2C-CE55-47FE-81FD-FCC2E6D13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0A1A-9B13-445D-87BB-03DFAB35A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4F56-9222-403E-9A5E-A9E84D01C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4C73-3061-44EB-8B4F-6B4DFCDB4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FDCC-93B5-4252-8C99-3BCCCD7F6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74D2-24BE-4F99-A975-CD6ECDCCB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1417-894C-46CA-96AF-3EE73681C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57D5-7789-431A-B0D4-D9381A143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43D2-C78E-4BBC-9B98-EA3FFF44B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07C3-5C70-40E8-A6FE-E93E27485FC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1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33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9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erforming Additional Cash Payments Journal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923-45FE-49C5-AAAD-E14E671BDEB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TY CASH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9\C21_blue_0919.jpg"/>
          <p:cNvPicPr/>
          <p:nvPr/>
        </p:nvPicPr>
        <p:blipFill>
          <a:blip r:embed="rId1"/>
          <a:stretch/>
        </p:blipFill>
        <p:spPr>
          <a:xfrm>
            <a:off x="3733920" y="1447920"/>
            <a:ext cx="5181480" cy="3394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7648560" y="263196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04920" y="479736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tual amount of cash on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8427960" y="47242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0"/>
          <p:cNvGrpSpPr/>
          <p:nvPr/>
        </p:nvGrpSpPr>
        <p:grpSpPr>
          <a:xfrm>
            <a:off x="7315200" y="3362400"/>
            <a:ext cx="1295280" cy="390600"/>
            <a:chOff x="7315200" y="3362400"/>
            <a:chExt cx="1295280" cy="390600"/>
          </a:xfrm>
        </p:grpSpPr>
        <p:sp>
          <p:nvSpPr>
            <p:cNvPr id="106" name="Freeform 18"/>
            <p:cNvSpPr/>
            <p:nvPr/>
          </p:nvSpPr>
          <p:spPr>
            <a:xfrm>
              <a:off x="7315200" y="3524400"/>
              <a:ext cx="1295280" cy="228600"/>
            </a:xfrm>
            <a:custGeom>
              <a:avLst/>
              <a:gdLst/>
              <a:ahLst/>
              <a:rect l="l" t="t" r="r" b="b"/>
              <a:pathLst>
                <a:path w="816" h="14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7802640" y="336240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4800600" y="1619280"/>
            <a:ext cx="2438280" cy="390600"/>
            <a:chOff x="4800600" y="1619280"/>
            <a:chExt cx="2438280" cy="390600"/>
          </a:xfrm>
        </p:grpSpPr>
        <p:sp>
          <p:nvSpPr>
            <p:cNvPr id="109" name="Freeform 22"/>
            <p:cNvSpPr/>
            <p:nvPr/>
          </p:nvSpPr>
          <p:spPr>
            <a:xfrm>
              <a:off x="4800600" y="1781280"/>
              <a:ext cx="2438280" cy="228600"/>
            </a:xfrm>
            <a:custGeom>
              <a:avLst/>
              <a:gdLst/>
              <a:ahLst/>
              <a:rect l="l" t="t" r="r" b="b"/>
              <a:pathLst>
                <a:path w="816" h="14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5859360" y="161928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26"/>
          <p:cNvGrpSpPr/>
          <p:nvPr/>
        </p:nvGrpSpPr>
        <p:grpSpPr>
          <a:xfrm>
            <a:off x="5753160" y="3048120"/>
            <a:ext cx="466200" cy="609480"/>
            <a:chOff x="5753160" y="3048120"/>
            <a:chExt cx="466200" cy="609480"/>
          </a:xfrm>
        </p:grpSpPr>
        <p:sp>
          <p:nvSpPr>
            <p:cNvPr id="112" name="Freeform 25"/>
            <p:cNvSpPr/>
            <p:nvPr/>
          </p:nvSpPr>
          <p:spPr>
            <a:xfrm>
              <a:off x="5914800" y="3048120"/>
              <a:ext cx="304560" cy="6094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192" y="0"/>
                  </a:moveTo>
                  <a:lnTo>
                    <a:pt x="0" y="0"/>
                  </a:lnTo>
                  <a:lnTo>
                    <a:pt x="0" y="384"/>
                  </a:lnTo>
                  <a:lnTo>
                    <a:pt x="192" y="3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753160" y="320040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30"/>
          <p:cNvGrpSpPr/>
          <p:nvPr/>
        </p:nvGrpSpPr>
        <p:grpSpPr>
          <a:xfrm>
            <a:off x="6477120" y="4210200"/>
            <a:ext cx="542880" cy="682560"/>
            <a:chOff x="6477120" y="4210200"/>
            <a:chExt cx="542880" cy="682560"/>
          </a:xfrm>
        </p:grpSpPr>
        <p:sp>
          <p:nvSpPr>
            <p:cNvPr id="115" name="Freeform 27"/>
            <p:cNvSpPr/>
            <p:nvPr/>
          </p:nvSpPr>
          <p:spPr>
            <a:xfrm>
              <a:off x="6639120" y="421020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6477120" y="457200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9"/>
          <p:cNvGrpSpPr/>
          <p:nvPr/>
        </p:nvGrpSpPr>
        <p:grpSpPr>
          <a:xfrm>
            <a:off x="5791320" y="4038480"/>
            <a:ext cx="1228680" cy="854280"/>
            <a:chOff x="5791320" y="4038480"/>
            <a:chExt cx="1228680" cy="854280"/>
          </a:xfrm>
        </p:grpSpPr>
        <p:sp>
          <p:nvSpPr>
            <p:cNvPr id="118" name="Rectangle 10"/>
            <p:cNvSpPr/>
            <p:nvPr/>
          </p:nvSpPr>
          <p:spPr>
            <a:xfrm>
              <a:off x="5791320" y="457200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8"/>
            <p:cNvSpPr/>
            <p:nvPr/>
          </p:nvSpPr>
          <p:spPr>
            <a:xfrm>
              <a:off x="5953320" y="4038480"/>
              <a:ext cx="10666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6775560" y="4419720"/>
            <a:ext cx="396720" cy="838080"/>
            <a:chOff x="6775560" y="4419720"/>
            <a:chExt cx="396720" cy="838080"/>
          </a:xfrm>
        </p:grpSpPr>
        <p:sp>
          <p:nvSpPr>
            <p:cNvPr id="121" name="Freeform 32"/>
            <p:cNvSpPr/>
            <p:nvPr/>
          </p:nvSpPr>
          <p:spPr>
            <a:xfrm>
              <a:off x="6934320" y="4419720"/>
              <a:ext cx="237960" cy="68580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3"/>
            <p:cNvSpPr/>
            <p:nvPr/>
          </p:nvSpPr>
          <p:spPr>
            <a:xfrm>
              <a:off x="6775560" y="493704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35"/>
          <p:cNvSpPr/>
          <p:nvPr/>
        </p:nvSpPr>
        <p:spPr>
          <a:xfrm>
            <a:off x="30492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 and custodian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304920" y="21146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und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304920" y="248616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 petty cash pay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04920" y="31528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nd write the total pay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304920" y="381960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nd write the recorded amount on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1"/>
          <p:cNvSpPr/>
          <p:nvPr/>
        </p:nvSpPr>
        <p:spPr>
          <a:xfrm>
            <a:off x="304920" y="516564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ract the actual amount on hand from the recorded amount on hand and write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2"/>
          <p:cNvSpPr/>
          <p:nvPr/>
        </p:nvSpPr>
        <p:spPr>
          <a:xfrm>
            <a:off x="304920" y="58294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of the replenish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6B76-7A81-4A42-99CC-41612EDA0A7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ENISHING A PETTY CASH F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C:\Documents and Settings\mcm08@fuse.net\My Documents\2005 Business Projects\Slides for Century 21 Accounting\Blue\ch09\C21_blue_0920.jpg"/>
          <p:cNvPicPr/>
          <p:nvPr/>
        </p:nvPicPr>
        <p:blipFill>
          <a:blip r:embed="rId1"/>
          <a:srcRect l="3715" t="0" r="0" b="23467"/>
          <a:stretch/>
        </p:blipFill>
        <p:spPr>
          <a:xfrm>
            <a:off x="304920" y="1447920"/>
            <a:ext cx="7238880" cy="4795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3733920" y="4191120"/>
            <a:ext cx="32040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257800" y="4191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486400" y="1447920"/>
            <a:ext cx="3198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486400" y="1812960"/>
            <a:ext cx="3198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5486400" y="2181240"/>
            <a:ext cx="3198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5486400" y="2543040"/>
            <a:ext cx="319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e am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486400" y="2905200"/>
            <a:ext cx="31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short as a debit; cash over as a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41360" y="54100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669960" y="577548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2847960" y="57150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3276720" y="4191120"/>
            <a:ext cx="32040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5486400" y="3565440"/>
            <a:ext cx="31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ash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B652-982F-4E51-A317-B3B6D640729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ING, PROVING, AND RULING A CASH PAYMENTS JOURNAL PAGE TO CARRY TOTALS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C:\Documents and Settings\mcm08@fuse.net\My Documents\2005 Business Projects\Slides for Century 21 Accounting\Blue\ch09\C21_blue_0922.jpg"/>
          <p:cNvPicPr/>
          <p:nvPr/>
        </p:nvPicPr>
        <p:blipFill>
          <a:blip r:embed="rId1"/>
          <a:srcRect l="706" t="0" r="0" b="30109"/>
          <a:stretch/>
        </p:blipFill>
        <p:spPr>
          <a:xfrm>
            <a:off x="311040" y="1447920"/>
            <a:ext cx="8501040" cy="1712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793800" y="3017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523880" y="3017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200400" y="2743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172200" y="3017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9"/>
          <p:cNvGrpSpPr/>
          <p:nvPr/>
        </p:nvGrpSpPr>
        <p:grpSpPr>
          <a:xfrm>
            <a:off x="2514600" y="1447920"/>
            <a:ext cx="1676520" cy="1294920"/>
            <a:chOff x="2514600" y="1447920"/>
            <a:chExt cx="1676520" cy="1294920"/>
          </a:xfrm>
        </p:grpSpPr>
        <p:sp>
          <p:nvSpPr>
            <p:cNvPr id="157" name="Line 16"/>
            <p:cNvSpPr/>
            <p:nvPr/>
          </p:nvSpPr>
          <p:spPr>
            <a:xfrm flipH="1" flipV="1">
              <a:off x="2743200" y="1676160"/>
              <a:ext cx="14479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2514600" y="14479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0"/>
          <p:cNvGrpSpPr/>
          <p:nvPr/>
        </p:nvGrpSpPr>
        <p:grpSpPr>
          <a:xfrm>
            <a:off x="7772400" y="2971800"/>
            <a:ext cx="944640" cy="1325520"/>
            <a:chOff x="7772400" y="2971800"/>
            <a:chExt cx="944640" cy="1325520"/>
          </a:xfrm>
        </p:grpSpPr>
        <p:sp>
          <p:nvSpPr>
            <p:cNvPr id="160" name="Line 18"/>
            <p:cNvSpPr/>
            <p:nvPr/>
          </p:nvSpPr>
          <p:spPr>
            <a:xfrm>
              <a:off x="7772400" y="297180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8305920" y="3886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Rectangle 21"/>
          <p:cNvSpPr/>
          <p:nvPr/>
        </p:nvSpPr>
        <p:spPr>
          <a:xfrm>
            <a:off x="-37440" y="3657600"/>
            <a:ext cx="32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-39240" y="402264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-47160" y="4390920"/>
            <a:ext cx="80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wor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ried Forwa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-44640" y="4753080"/>
            <a:ext cx="62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-40680" y="5114880"/>
            <a:ext cx="39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each column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-38160" y="5486400"/>
            <a:ext cx="32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3"/>
          <p:cNvSpPr/>
          <p:nvPr/>
        </p:nvSpPr>
        <p:spPr>
          <a:xfrm>
            <a:off x="3886200" y="2884320"/>
            <a:ext cx="0" cy="63720"/>
          </a:xfrm>
          <a:prstGeom prst="line">
            <a:avLst/>
          </a:prstGeom>
          <a:ln w="9360">
            <a:solidFill>
              <a:srgbClr val="003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6"/>
          <p:cNvSpPr/>
          <p:nvPr/>
        </p:nvSpPr>
        <p:spPr>
          <a:xfrm flipV="1">
            <a:off x="3886200" y="2819160"/>
            <a:ext cx="109440" cy="128520"/>
          </a:xfrm>
          <a:prstGeom prst="line">
            <a:avLst/>
          </a:prstGeom>
          <a:ln w="9360">
            <a:solidFill>
              <a:srgbClr val="003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733920" y="2971800"/>
            <a:ext cx="206280" cy="182520"/>
          </a:xfrm>
          <a:prstGeom prst="rect">
            <a:avLst/>
          </a:prstGeom>
          <a:solidFill>
            <a:srgbClr val="ffe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675-E0F9-4ED1-82C3-CA1B3064239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ING A NEW CASH PAYMENTS JOURNAL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C:\Documents and Settings\mcm08@fuse.net\My Documents\2005 Business Projects\Slides for Century 21 Accounting\Blue\ch09\C21_blue_0924.jpg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1187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8361360" y="1494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609480" y="2560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600200" y="2560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678120" y="2560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-42120" y="3657600"/>
            <a:ext cx="47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-39240" y="402264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-47160" y="4390920"/>
            <a:ext cx="81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wor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ught Forw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-44640" y="4753080"/>
            <a:ext cx="62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-41400" y="5114880"/>
            <a:ext cx="40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column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20"/>
          <p:cNvGrpSpPr/>
          <p:nvPr/>
        </p:nvGrpSpPr>
        <p:grpSpPr>
          <a:xfrm>
            <a:off x="4191120" y="2419200"/>
            <a:ext cx="4495680" cy="552600"/>
            <a:chOff x="4191120" y="2419200"/>
            <a:chExt cx="4495680" cy="552600"/>
          </a:xfrm>
        </p:grpSpPr>
        <p:sp>
          <p:nvSpPr>
            <p:cNvPr id="186" name="Freeform 19"/>
            <p:cNvSpPr/>
            <p:nvPr/>
          </p:nvSpPr>
          <p:spPr>
            <a:xfrm>
              <a:off x="4191120" y="2419200"/>
              <a:ext cx="4495680" cy="365400"/>
            </a:xfrm>
            <a:custGeom>
              <a:avLst/>
              <a:gdLst/>
              <a:ahLst/>
              <a:rect l="l" t="t" r="r" b="b"/>
              <a:pathLst>
                <a:path w="2832" h="192">
                  <a:moveTo>
                    <a:pt x="0" y="0"/>
                  </a:moveTo>
                  <a:lnTo>
                    <a:pt x="0" y="192"/>
                  </a:lnTo>
                  <a:lnTo>
                    <a:pt x="2832" y="192"/>
                  </a:lnTo>
                  <a:lnTo>
                    <a:pt x="28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6232680" y="2560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A940-EF95-4DDF-9FF3-C7DC1DA0C14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693432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ING, PROVING, AND RULING A CASH PAYMENTS JOURNAL AT THE END OF A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C:\Documents and Settings\mcm08@fuse.net\My Documents\2005 Business Projects\Slides for Century 21 Accounting\Blue\ch09\C21_blue_0925.jpg"/>
          <p:cNvPicPr/>
          <p:nvPr/>
        </p:nvPicPr>
        <p:blipFill>
          <a:blip r:embed="rId1"/>
          <a:srcRect l="894" t="0" r="894" b="0"/>
          <a:stretch/>
        </p:blipFill>
        <p:spPr>
          <a:xfrm>
            <a:off x="304920" y="1447920"/>
            <a:ext cx="8534160" cy="22636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345960" y="3287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198440" y="361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172200" y="3703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-37440" y="4114800"/>
            <a:ext cx="32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-39240" y="447984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-43560" y="4848120"/>
            <a:ext cx="68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-40680" y="5210280"/>
            <a:ext cx="39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each column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-38160" y="5572080"/>
            <a:ext cx="32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6"/>
          <p:cNvGrpSpPr/>
          <p:nvPr/>
        </p:nvGrpSpPr>
        <p:grpSpPr>
          <a:xfrm>
            <a:off x="2743200" y="1523880"/>
            <a:ext cx="1447560" cy="1828800"/>
            <a:chOff x="2743200" y="1523880"/>
            <a:chExt cx="1447560" cy="1828800"/>
          </a:xfrm>
        </p:grpSpPr>
        <p:sp>
          <p:nvSpPr>
            <p:cNvPr id="202" name="Line 21"/>
            <p:cNvSpPr/>
            <p:nvPr/>
          </p:nvSpPr>
          <p:spPr>
            <a:xfrm flipH="1" flipV="1">
              <a:off x="2971440" y="1828440"/>
              <a:ext cx="121932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2"/>
            <p:cNvSpPr/>
            <p:nvPr/>
          </p:nvSpPr>
          <p:spPr>
            <a:xfrm>
              <a:off x="2743200" y="15238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23"/>
          <p:cNvGrpSpPr/>
          <p:nvPr/>
        </p:nvGrpSpPr>
        <p:grpSpPr>
          <a:xfrm>
            <a:off x="7894800" y="3692520"/>
            <a:ext cx="943920" cy="1325520"/>
            <a:chOff x="7894800" y="3692520"/>
            <a:chExt cx="943920" cy="1325520"/>
          </a:xfrm>
        </p:grpSpPr>
        <p:sp>
          <p:nvSpPr>
            <p:cNvPr id="205" name="Line 24"/>
            <p:cNvSpPr/>
            <p:nvPr/>
          </p:nvSpPr>
          <p:spPr>
            <a:xfrm>
              <a:off x="7894800" y="3692520"/>
              <a:ext cx="76176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8427960" y="4606920"/>
              <a:ext cx="41076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10A4-49F0-448D-983D-8DC1AD01B0A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28Z</dcterms:created>
  <dc:creator>M. C. McLaughlin</dc:creator>
  <dc:description/>
  <dc:language>en-US</dc:language>
  <cp:lastModifiedBy>bstromes</cp:lastModifiedBy>
  <dcterms:modified xsi:type="dcterms:W3CDTF">2014-11-20T18:01:32Z</dcterms:modified>
  <cp:revision>24</cp:revision>
  <dc:subject/>
  <dc:title>Lesson 9-1</dc:title>
</cp:coreProperties>
</file>